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2.png" ContentType="image/png"/>
  <Override PartName="/ppt/media/image7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Click to move the slide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FE26F-B3F4-4D7B-974A-6DE8C3CAB66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9EE44-5F46-4E61-9826-5FA86E2BEC0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12EE6-68F3-4D96-B477-3222D315BDF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arest continent to Antarctica 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 Amer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Cape of Good Hope the distance is about 5,000 k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Cape Horn the distance is about 4,000 k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doesn’t matter where you go, travel away from Antarctica is always to the North! A trick questio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ch bigger in the west – that land is a bit lower but the snow is a bit thin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4 x 2 = 28 + ½ 14 = 7 total 35 with 9 ’s! 35 bill sq k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48DD0-E8E8-476B-96E4-A9AA51A0FA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0CCDA-28AE-4D4D-B65E-F65C5D2B59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FF9ED-BD18-4ABE-9DB7-9C177B4156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304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92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304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480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D7C70-12D4-4F5B-9CCF-13AC72D785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10E04-46F7-4906-A808-13F63DA1928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C1020-E004-411D-AAB8-EFD7404020B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AD13D-A7BC-4747-BA27-8091C82388C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E3F5B-6A52-4178-9A72-8329AF0EDFD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2E273-4820-44F2-8EEB-DB122A44090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8920" y="102960"/>
            <a:ext cx="8713800" cy="37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C3C34-6B89-4F16-9380-2F8CD95DE2F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34DA5-C765-4DCA-9EF0-C354FFE04C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514E2-A57D-4800-8983-E94D75C2E3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7A1DB-DF14-480A-8115-7C2D1F07483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6D2AE-544E-4EE2-856D-E5661AE3AD2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E83CC-8CB9-40DB-906A-0C93292BABF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FDB7C-69B6-4521-8BFD-33CCFFDAEDB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7304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9480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5092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7304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9480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B5035-FCE9-4AC2-9DA0-7B5D8E9690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94303-F410-41F3-9952-8BD9FD9E26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2B537-13F8-47B5-B9C7-06DE4985E3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FA69B-148C-4199-B0FF-A67D27F89C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8920" y="102960"/>
            <a:ext cx="8713800" cy="37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EA57B-D372-466B-8A69-6DA921DF56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D3945-A146-45E2-B8D4-D8374FF8F8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073A1-48E5-4433-86F8-F07604618C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5B8B8-CD46-4F1B-A617-0B37F78064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8840" y="-93600"/>
            <a:ext cx="2772720" cy="6950160"/>
            <a:chOff x="-7884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ead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5600" y="3922560"/>
              <a:ext cx="889560" cy="719640"/>
              <a:chOff x="7560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2492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8440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792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5084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6840" y="2601000"/>
              <a:ext cx="2687040" cy="3117960"/>
              <a:chOff x="684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9456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1196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6576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9100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1540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60040" y="4055040"/>
                <a:ext cx="1833840" cy="1663920"/>
                <a:chOff x="86004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972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3604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992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75560" y="6174000"/>
              <a:ext cx="790560" cy="634680"/>
              <a:chOff x="47556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2132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932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9420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25080" y="1775880"/>
              <a:ext cx="785160" cy="693360"/>
              <a:chOff x="32508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4708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70128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2392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301760" y="0"/>
              <a:ext cx="546480" cy="581400"/>
              <a:chOff x="130176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30176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5196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9220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4616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9168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3020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b2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556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792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92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ab2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92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924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9168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908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8232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3636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792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9648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1"/>
          </p:nvPr>
        </p:nvSpPr>
        <p:spPr>
          <a:xfrm>
            <a:off x="8100720" y="5949720"/>
            <a:ext cx="863640" cy="75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4F5C5-3EA4-4127-A70A-18AFE0E14064}" type="slidenum"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4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98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2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6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0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4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sldNum" idx="2"/>
          </p:nvPr>
        </p:nvSpPr>
        <p:spPr>
          <a:xfrm>
            <a:off x="7956720" y="6243480"/>
            <a:ext cx="86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1B955-B16D-4B86-B396-3B797C9851A4}" type="slidenum"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SzPct val="85000"/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Antarctica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547280" y="4221000"/>
            <a:ext cx="61470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FF38C-DA5A-4C7E-8387-685C4397FBE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42920" y="549360"/>
            <a:ext cx="73454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The next bit is about what has happened to Antarctica over time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971640" y="4221000"/>
            <a:ext cx="74880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So just to remind those who have done it before – and for those who have never come across it…..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3C07D-6C78-4D3D-95CC-EA5EEC2FF6A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471920" y="1542960"/>
            <a:ext cx="3772080" cy="37720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56120" y="102960"/>
            <a:ext cx="48369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The Structure of the Earth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826920" y="907920"/>
            <a:ext cx="4505760" cy="1229760"/>
            <a:chOff x="826920" y="907920"/>
            <a:chExt cx="4505760" cy="1229760"/>
          </a:xfrm>
        </p:grpSpPr>
        <p:sp>
          <p:nvSpPr>
            <p:cNvPr id="198" name=""/>
            <p:cNvSpPr/>
            <p:nvPr/>
          </p:nvSpPr>
          <p:spPr>
            <a:xfrm rot="1084200">
              <a:off x="3255120" y="1517040"/>
              <a:ext cx="2081520" cy="304920"/>
            </a:xfrm>
            <a:prstGeom prst="rightArrow">
              <a:avLst>
                <a:gd name="adj1" fmla="val 50000"/>
                <a:gd name="adj2" fmla="val 170661"/>
              </a:avLst>
            </a:prstGeom>
            <a:solidFill>
              <a:srgbClr val="cc6600"/>
            </a:solidFill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26920" y="907920"/>
              <a:ext cx="2775240" cy="1191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99"/>
                  </a:solidFill>
                  <a:latin typeface="Comic Sans MS"/>
                </a:rPr>
                <a:t>A thin crust - 10-100km thick and not very dense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250920" y="2276640"/>
            <a:ext cx="4937760" cy="1191240"/>
            <a:chOff x="250920" y="2276640"/>
            <a:chExt cx="4937760" cy="1191240"/>
          </a:xfrm>
        </p:grpSpPr>
        <p:sp>
          <p:nvSpPr>
            <p:cNvPr id="201" name=""/>
            <p:cNvSpPr/>
            <p:nvPr/>
          </p:nvSpPr>
          <p:spPr>
            <a:xfrm rot="21440400">
              <a:off x="3209760" y="2428920"/>
              <a:ext cx="1972800" cy="304920"/>
            </a:xfrm>
            <a:prstGeom prst="rightArrow">
              <a:avLst>
                <a:gd name="adj1" fmla="val 50000"/>
                <a:gd name="adj2" fmla="val 161747"/>
              </a:avLst>
            </a:prstGeom>
            <a:solidFill>
              <a:srgbClr val="ff9900"/>
            </a:solidFill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50920" y="2276640"/>
              <a:ext cx="3369960" cy="11912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99"/>
                  </a:solidFill>
                  <a:latin typeface="Comic Sans MS"/>
                </a:rPr>
                <a:t>A mantle – extends almost halfway to the centre, hot and dense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179280" y="3331080"/>
            <a:ext cx="5466240" cy="2536560"/>
            <a:chOff x="179280" y="3331080"/>
            <a:chExt cx="5466240" cy="2536560"/>
          </a:xfrm>
        </p:grpSpPr>
        <p:sp>
          <p:nvSpPr>
            <p:cNvPr id="204" name=""/>
            <p:cNvSpPr/>
            <p:nvPr/>
          </p:nvSpPr>
          <p:spPr>
            <a:xfrm rot="20285400">
              <a:off x="3541320" y="3715920"/>
              <a:ext cx="2123640" cy="304920"/>
            </a:xfrm>
            <a:prstGeom prst="rightArrow">
              <a:avLst>
                <a:gd name="adj1" fmla="val 50000"/>
                <a:gd name="adj2" fmla="val 174115"/>
              </a:avLst>
            </a:prstGeom>
            <a:solidFill>
              <a:srgbClr val="fee97e"/>
            </a:solidFill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79280" y="3944880"/>
              <a:ext cx="3893400" cy="1922760"/>
            </a:xfrm>
            <a:prstGeom prst="rect">
              <a:avLst/>
            </a:prstGeom>
            <a:solidFill>
              <a:srgbClr val="fee9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99"/>
                  </a:solidFill>
                  <a:latin typeface="Comic Sans MS"/>
                </a:rPr>
                <a:t>A core – made of molten nickel and iron.  Outer part is liquid and inner part is solid.  Gets hot due to radioactive decay.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457200" y="603576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9999"/>
                </a:solidFill>
                <a:latin typeface="Comic Sans MS"/>
              </a:rPr>
              <a:t>The Earth is believed to be 4500 million years old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92183-F69A-42C9-B199-D56932D3572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Comic Sans MS"/>
              </a:rPr>
              <a:t>Plates and plate boundarie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4247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e earth's crust is                                                 broken up into pieces.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ese pieces are called                                           plates.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Heat rising and falling                                                            inside the mantle creates                             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convection currents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e convection currents move the plates.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e movement of the plates, and the activity inside the earth, is called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plate tectonics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e point where two plates meet is called a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plate boundary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7"/>
          <a:stretch/>
        </p:blipFill>
        <p:spPr>
          <a:xfrm>
            <a:off x="5076720" y="1125360"/>
            <a:ext cx="3791160" cy="2428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60ACD-45F2-4D97-AA3B-D26074AFAD9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719280" y="333360"/>
            <a:ext cx="7705440" cy="619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09631-90B2-4ACF-BE83-EC09EC49FEE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So where did Antarctica fit into all this movement?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971640" y="3573000"/>
            <a:ext cx="770400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99"/>
                </a:solidFill>
                <a:latin typeface="Comic Sans MS"/>
              </a:rPr>
              <a:t>OR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99"/>
                </a:solidFill>
                <a:latin typeface="Comic Sans MS"/>
              </a:rPr>
              <a:t>How Gondwana became the world we know today 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FEB61-9CF6-4353-959D-432DFE57E1D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4673520" cy="46735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5651640" y="189000"/>
            <a:ext cx="3311280" cy="33112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3924360" y="3473280"/>
            <a:ext cx="3384360" cy="33847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788000" y="1628640"/>
            <a:ext cx="792000" cy="432000"/>
          </a:xfrm>
          <a:prstGeom prst="rightArrow">
            <a:avLst>
              <a:gd name="adj1" fmla="val 50000"/>
              <a:gd name="adj2" fmla="val 45833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7291800">
            <a:off x="6081480" y="3165120"/>
            <a:ext cx="647640" cy="431640"/>
          </a:xfrm>
          <a:prstGeom prst="rightArrow">
            <a:avLst>
              <a:gd name="adj1" fmla="val 50000"/>
              <a:gd name="adj2" fmla="val 37510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89BF1-1589-4151-943F-A7DBA047734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3384360" cy="33847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5219640" y="333360"/>
            <a:ext cx="3344760" cy="3344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2916360" y="3573360"/>
            <a:ext cx="3168360" cy="31687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4284720" y="1628640"/>
            <a:ext cx="792000" cy="432000"/>
          </a:xfrm>
          <a:prstGeom prst="rightArrow">
            <a:avLst>
              <a:gd name="adj1" fmla="val 50000"/>
              <a:gd name="adj2" fmla="val 45833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7459800">
            <a:off x="5254560" y="3393000"/>
            <a:ext cx="792360" cy="431640"/>
          </a:xfrm>
          <a:prstGeom prst="rightArrow">
            <a:avLst>
              <a:gd name="adj1" fmla="val 50000"/>
              <a:gd name="adj2" fmla="val 45892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95280" y="4581360"/>
            <a:ext cx="2089080" cy="1295640"/>
          </a:xfrm>
          <a:prstGeom prst="wedgeRoundRectCallout">
            <a:avLst>
              <a:gd name="adj1" fmla="val 34347"/>
              <a:gd name="adj2" fmla="val -83944"/>
              <a:gd name="adj3" fmla="val 16667"/>
            </a:avLst>
          </a:prstGeom>
          <a:solidFill>
            <a:srgbClr val="ebf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There is a link on the wiki to an animated version of this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3F99F-DBA9-47CD-BD32-DA8EEC1CED7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Let’s see what it is really like!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3673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mic Sans MS"/>
              </a:rPr>
              <a:t>Antarctica is the world’s last great wilderness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Antarctica is the world’s last great wilderness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It is a continent almost entirely buried by snow and ice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It is so hostile and remote that it has no permanent residents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Surrounded by the Southern Ocean, Antarctica covers nearly 9% of the Earth’s land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140360" y="4581000"/>
            <a:ext cx="475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It is 25% bigger than Europe, making it the fifth largest continent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It is also the least polluted of all the continents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8"/>
          <a:stretch/>
        </p:blipFill>
        <p:spPr>
          <a:xfrm>
            <a:off x="3924360" y="1125360"/>
            <a:ext cx="5038560" cy="33339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B55C6-57D3-44A2-A728-5D126CC5FDE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Let’s see what it is really like!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4321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Antarctica is divided into two main areas: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224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99"/>
                </a:solidFill>
                <a:latin typeface="Comic Sans MS"/>
              </a:rPr>
              <a:t>East Antarctica (sometimes called Greater Antarctica), and 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224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99"/>
                </a:solidFill>
                <a:latin typeface="Comic Sans MS"/>
              </a:rPr>
              <a:t>West Antarctica (Lesser Antarctica) 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They are separated by the Transantarctic Mountains that stretch 3,540 kilometres across the continent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284360" y="4581000"/>
            <a:ext cx="46083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West Antarctica is the smallest of the two and has a peninsula that sticks out nearly 1,000 towards the southern tip of South America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6"/>
          <a:stretch/>
        </p:blipFill>
        <p:spPr>
          <a:xfrm>
            <a:off x="4500720" y="731880"/>
            <a:ext cx="4464000" cy="39006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A1347-A35B-49AC-9744-09C212B5398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8920" y="31680"/>
            <a:ext cx="87138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Let’s see what it is really like!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50560" y="765000"/>
            <a:ext cx="40338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About 99% of Antarctica is covered with a vast ice sheet. 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It is the largest single mass of ice on Earth and is bigger than the whole of Europe. 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At least 3 million years old (and as much as 30 million years old in places)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The ice sheet averages 2,450 metres deep and holds about 70% of the world’s fresh water. 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The average altitude is about 2,300 metres above sea level.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Vinson Massif is Antarctica’s highest point, rising to a height of 4,897 metres.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427640" y="4292280"/>
            <a:ext cx="446544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But in places, the bottom of the ice can be as much as 3,000m below sea level. 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So they weren’t filled with ice, large parts of Antarctica would be under the sea. 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9"/>
          <a:stretch/>
        </p:blipFill>
        <p:spPr>
          <a:xfrm>
            <a:off x="4427640" y="836640"/>
            <a:ext cx="4392360" cy="3352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8D966-835C-4A9E-95E6-106D6FD9EFD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What are we going to do?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Where is it? What is it? Why it is like that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What goes on there? How did that come about? What are the pressures on it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What about Antarctica and Global warming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What about visiting the place? Would you like to go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What have you found out about Antarctica? 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645DD-C3C3-4E53-910B-C38451E34E8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78920" y="31680"/>
            <a:ext cx="87138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Let’s see what it is really like!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50560" y="765000"/>
            <a:ext cx="432108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Antarctica’s ice sheet is constantly on the move. 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Huge rivers of ice known as glaciers are pulled slowly by gravity from the interior towards the sea. 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Along the way, the ice cracks, breaks and is ruptured by underlying rock. 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Crevasses up to hundreds of metres deep can form on the surface. 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On reaching the sea, the glaciers spill out over the water’s surface and create gigantic floating blocks of ice called ice shelves.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The largest, the Ross Ice Shelf, is the size of France.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42920" y="3500280"/>
            <a:ext cx="424980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Sometimes pieces of an ice shelf break off to form icebergs. 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Beyond the ice shelves, much of the surrounding ocean freezes over during the winter. 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With this extra winter sea-ice, Antarctica almost doubles in size.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0"/>
          <a:stretch/>
        </p:blipFill>
        <p:spPr>
          <a:xfrm>
            <a:off x="4643280" y="692280"/>
            <a:ext cx="4256280" cy="27939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A33B9-DD08-43D7-BB64-9113ED09065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Do they have seasons on Antarctica or is always just cold?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0920" y="4724280"/>
            <a:ext cx="864216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Before I get you to count icy squares (1 mill km</a:t>
            </a:r>
            <a:r>
              <a:rPr b="0" lang="en-US" sz="2800" spc="-1" strike="noStrike" baseline="30000">
                <a:solidFill>
                  <a:srgbClr val="006699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 each), I think we need to discuss something – do you notice anything odd here?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Can you think what is going on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4643280" y="1484280"/>
            <a:ext cx="2524320" cy="25243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1187280" y="1484280"/>
            <a:ext cx="2524320" cy="25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1474920" y="414972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March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003640" y="414972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September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C2351-631D-4954-9E46-09D2D17DCB5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Mostly you will have come across Antarctica on a map like this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04760" y="1263600"/>
            <a:ext cx="8934480" cy="533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D5303-D974-4859-8DF4-D6DFB048F9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Comic Sans MS"/>
              </a:rPr>
              <a:t>How many UKs could fit into Antarctica?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124000" y="1268280"/>
            <a:ext cx="5048280" cy="50482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24000" y="4581360"/>
            <a:ext cx="1800000" cy="648000"/>
          </a:xfrm>
          <a:prstGeom prst="cloudCallout">
            <a:avLst>
              <a:gd name="adj1" fmla="val 116050"/>
              <a:gd name="adj2" fmla="val -39949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Guess?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36F48-C0D4-47E6-849C-D53BCE0065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How can we do it properly?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If we know the area of each location (UK and Antarctica), 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we can divide Antarctica area by the UK area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Antarctica</a:t>
            </a: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 13,829,430 km</a:t>
            </a:r>
            <a:r>
              <a:rPr b="0" lang="en-US" sz="3200" spc="-1" strike="noStrike" baseline="30000">
                <a:solidFill>
                  <a:srgbClr val="006699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UK</a:t>
            </a: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 224,820 km</a:t>
            </a:r>
            <a:r>
              <a:rPr b="0" lang="en-US" sz="3200" spc="-1" strike="noStrike" baseline="30000">
                <a:solidFill>
                  <a:srgbClr val="006699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Now </a:t>
            </a: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calculate</a:t>
            </a: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 about how many countries the size of the UK would fit into Antarctica what is it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F6B24-AC60-4C2C-83CB-70D6A886871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8920" y="103320"/>
            <a:ext cx="87138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Comic Sans MS"/>
              </a:rPr>
              <a:t>What about the other parts of the world?</a:t>
            </a:r>
            <a:endParaRPr b="0" lang="en-US" sz="32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50920" y="5661000"/>
            <a:ext cx="86421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Which is it closest to it in size? Which is it just less than double? Can you put them in order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1116000" y="692280"/>
            <a:ext cx="7128000" cy="460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D81C2-5E40-406D-8DD5-13856D38E13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Upside down world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3673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What is the nearest continent to Antarctica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Approximately how far is it from </a:t>
            </a:r>
            <a:r>
              <a:rPr b="1" lang="en-US" sz="2800" spc="-1" strike="noStrike">
                <a:solidFill>
                  <a:srgbClr val="006699"/>
                </a:solidFill>
                <a:latin typeface="Comic Sans MS"/>
              </a:rPr>
              <a:t>the South Pole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 to: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04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e Cape of Good Hope?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04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Cape Horn?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In which compass direction do you move from Antarctica to: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04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South America?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04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Australia?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8"/>
          <a:stretch/>
        </p:blipFill>
        <p:spPr>
          <a:xfrm>
            <a:off x="3851280" y="1197000"/>
            <a:ext cx="5037120" cy="5037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B673C-5687-453B-92DA-144BEBFA2FA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979640" y="2378160"/>
            <a:ext cx="7157880" cy="44355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1547640" y="182520"/>
            <a:ext cx="7525080" cy="25257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79280" y="2276640"/>
            <a:ext cx="2016360" cy="4105080"/>
          </a:xfrm>
          <a:prstGeom prst="wedgeRoundRectCallout">
            <a:avLst>
              <a:gd name="adj1" fmla="val 80708"/>
              <a:gd name="adj2" fmla="val -16935"/>
              <a:gd name="adj3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If you have the worksheet, label it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If you do not have the worksheet, you will need to flick back and forward for this one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BAB2F-860E-4E42-B20A-B8FA70A701D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he question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1. Can you spot three differences between the ice sheets over West Antarctica and East Antarctica? Think about their size, the heights of the ice sheets and the land below them.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2. If Antarctica’s area is about 14,000,000 square kilometres and the average ice sheet thickness is 2,450 metres, can you calculate the approximate volume of the ice in Antarctica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3. What do you think would happen to the land buried under the ice if the ice sheets melted? Why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070F8-5959-4759-9D29-F7837D8A04A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3T08:48:11Z</dcterms:created>
  <dc:creator>Lindy</dc:creator>
  <dc:description/>
  <dc:language>en-US</dc:language>
  <cp:lastModifiedBy>Lindy</cp:lastModifiedBy>
  <dcterms:modified xsi:type="dcterms:W3CDTF">2009-04-19T13:12:14Z</dcterms:modified>
  <cp:revision>8</cp:revision>
  <dc:subject/>
  <dc:title>Antarctica</dc:title>
</cp:coreProperties>
</file>